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FDE4-A702-4133-BB6B-294FD6AE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9B04-0E61-4F43-A1F5-DC3012D9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7468-B15B-4EEE-BAD9-92617C1D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458-04AD-4D62-92C4-85342CCD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DD83-51D8-405E-8E51-C54BD5A8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2F2A-AEC8-4450-A13B-4D7A8AE3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AF4A-C633-47D6-B3FE-704959B1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58E6-F7D4-4A09-B9FF-D0A34963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2935-E132-490D-A47D-01725A79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D9C1-1A6E-4EE2-B764-1B738981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C7C5-F171-4EC6-AE9A-CFACCB0E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FD76-8F80-454E-95E5-F59E104A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A161-4146-423C-9522-33EECEC50E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eith Churches Assoc"/>
          <p:cNvPicPr/>
          <p:nvPr/>
        </p:nvPicPr>
        <p:blipFill>
          <a:blip r:embed="rId1"/>
          <a:stretch/>
        </p:blipFill>
        <p:spPr>
          <a:xfrm>
            <a:off x="5097600" y="2060640"/>
            <a:ext cx="987120" cy="1303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Edinburgh Retired Mens Assoc"/>
          <p:cNvPicPr/>
          <p:nvPr/>
        </p:nvPicPr>
        <p:blipFill>
          <a:blip r:embed="rId2"/>
          <a:stretch/>
        </p:blipFill>
        <p:spPr>
          <a:xfrm>
            <a:off x="6537240" y="2205000"/>
            <a:ext cx="1042920" cy="1170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0" y="1785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ARDIE                                  WARDIE                                         WARDIE                                 WARDIE  50TH                 WHITEFOORD  FRIENDLY                       WILLOWBR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738600" y="0"/>
            <a:ext cx="19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1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Willowbrae 75th"/>
          <p:cNvPicPr/>
          <p:nvPr/>
        </p:nvPicPr>
        <p:blipFill>
          <a:blip r:embed="rId3"/>
          <a:stretch/>
        </p:blipFill>
        <p:spPr>
          <a:xfrm>
            <a:off x="1928880" y="22050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Willowbrae 1"/>
          <p:cNvPicPr/>
          <p:nvPr/>
        </p:nvPicPr>
        <p:blipFill>
          <a:blip r:embed="rId4"/>
          <a:stretch/>
        </p:blipFill>
        <p:spPr>
          <a:xfrm>
            <a:off x="8024760" y="642960"/>
            <a:ext cx="1252440" cy="1152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Willowbrae 3"/>
          <p:cNvPicPr/>
          <p:nvPr/>
        </p:nvPicPr>
        <p:blipFill>
          <a:blip r:embed="rId5"/>
          <a:stretch/>
        </p:blipFill>
        <p:spPr>
          <a:xfrm>
            <a:off x="488880" y="2276640"/>
            <a:ext cx="1225800" cy="1069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7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OWBRAE                    WILLOWBRAE  75TH                     WILLOWBRAE  100TH         LEITH  CHURCHES  ASSOC        EDINBURGH  RETIRED  ME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9" descr="Whitefoord Hospital"/>
          <p:cNvPicPr/>
          <p:nvPr/>
        </p:nvPicPr>
        <p:blipFill>
          <a:blip r:embed="rId6"/>
          <a:stretch/>
        </p:blipFill>
        <p:spPr>
          <a:xfrm>
            <a:off x="6453360" y="64296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6" descr="Wardie 50th"/>
          <p:cNvPicPr/>
          <p:nvPr/>
        </p:nvPicPr>
        <p:blipFill>
          <a:blip r:embed="rId7"/>
          <a:stretch/>
        </p:blipFill>
        <p:spPr>
          <a:xfrm>
            <a:off x="5024520" y="0"/>
            <a:ext cx="1133280" cy="1838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Wardie 3.JPG"/>
          <p:cNvPicPr/>
          <p:nvPr/>
        </p:nvPicPr>
        <p:blipFill>
          <a:blip r:embed="rId8"/>
          <a:stretch/>
        </p:blipFill>
        <p:spPr>
          <a:xfrm>
            <a:off x="523800" y="500040"/>
            <a:ext cx="118908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Wardie 4.JPG"/>
          <p:cNvPicPr/>
          <p:nvPr/>
        </p:nvPicPr>
        <p:blipFill>
          <a:blip r:embed="rId9">
            <a:lum bright="10000"/>
          </a:blip>
          <a:stretch/>
        </p:blipFill>
        <p:spPr>
          <a:xfrm>
            <a:off x="1881360" y="714240"/>
            <a:ext cx="124272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Wardie 5.JPG"/>
          <p:cNvPicPr/>
          <p:nvPr/>
        </p:nvPicPr>
        <p:blipFill>
          <a:blip r:embed="rId10">
            <a:lum bright="10000"/>
          </a:blip>
          <a:stretch/>
        </p:blipFill>
        <p:spPr>
          <a:xfrm>
            <a:off x="3452760" y="571680"/>
            <a:ext cx="1262160" cy="123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Willowbrae  100th.jpg"/>
          <p:cNvPicPr/>
          <p:nvPr/>
        </p:nvPicPr>
        <p:blipFill>
          <a:blip r:embed="rId11"/>
          <a:stretch/>
        </p:blipFill>
        <p:spPr>
          <a:xfrm>
            <a:off x="3440160" y="2421000"/>
            <a:ext cx="13111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7:59:38Z</dcterms:created>
  <dc:creator>JY</dc:creator>
  <dc:description/>
  <dc:language>en-US</dc:language>
  <cp:lastModifiedBy>John</cp:lastModifiedBy>
  <dcterms:modified xsi:type="dcterms:W3CDTF">2011-12-22T15:41:27Z</dcterms:modified>
  <cp:revision>12</cp:revision>
  <dc:subject/>
  <dc:title>Slide 1</dc:title>
</cp:coreProperties>
</file>